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5D8-22F9-4379-8DD5-FF18BD41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1F81-0042-437A-B499-67B188C7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2B3B-B9B3-4D22-AA94-3CECA72B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06AB-E7F8-4F84-8DA6-31EC97DD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8404-F071-4D21-B2F8-407A94CC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D67A-E243-4234-82F3-1F9F951E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F35C-99E8-46F3-AACA-7C3DFDB4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58E0-EA24-421B-A39F-021C1B68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8299-634B-4D4D-89DF-6CF0F141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5FBA-5F8C-4596-9E60-A17DA2D0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195F-CCA6-41D5-9D81-EEB7DE6D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BFFD-EAF1-46E8-9B81-5EFA7EBF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86AE-E61C-471B-8F5A-3AFB7A34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46AD-7C7D-4875-B3A2-16FC99FA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72EA-DEB8-4082-83EC-B65A6FC1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00ED-B1B1-4CDE-ADF9-E0FEC8E8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4C8F-F75A-49DC-A68C-399E336C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CF26E4-67CE-46D1-8752-A7AE65D6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F57385-9BEE-4A21-99A1-5014B5D7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D0CC3-E5D1-4550-99F0-0C940E14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A8F31-9592-4BBB-9359-E0AEA000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4CF587-9074-4F8B-8039-11D22CC3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B049-2315-450E-902D-DD253B75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18290C-73BE-469B-B6B2-DA003991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F777B1-D2F1-4C87-B8C9-D1C7C0A8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300E2D-EEE5-4118-A258-927EE868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F16C9D-3F29-4496-9AE5-A3B88E69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2E2878-5560-4678-97F2-113329E0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9BE249-BDCF-4D4C-95C7-71B1D7E3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4F8ECB-8FF4-4599-8CB1-FB262A20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40434-1B17-4F9A-8150-DC37C64F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EA07C-DF56-48A2-B902-28B0E586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8E288-1FC7-40AA-89B6-39B309E2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D6A4-A43D-450F-9A11-A7DF750E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C9AF7-3BCA-4C19-A4DA-98BABBB6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14482-5AB6-41E0-8CA7-ADB73871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E21FD-E07D-40B6-ADB0-93A92E3A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FEB10-666E-49AD-8FF1-6D73C25D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6BE22-79EF-405F-96A5-22546A2A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8858D-8FDF-4D17-8E93-F35D5D1F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C35DA-149B-41B6-AB10-A857BD9D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CEEC3-45F2-47B3-896B-6F157200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C2556-2117-41CF-BAF9-4B24D50E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260833-8159-4478-888C-AD8EA7CF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1032-0624-4F62-8E47-B3FABDB6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39CC2F-5487-4CE4-A0F2-170021D9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8DC0F3-617F-477D-92A2-75B5D7B3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7FD3E1-7E6B-4805-9C54-5516309E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16213B-1C8A-4E5C-B152-18765AFD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76B3B1-F8B2-4FAC-A36B-8D2FEEBD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E58D92-2FFD-4BAA-B4A2-0B2EF5FE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B3C78F-DB81-4B7E-8767-2B82006E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D883D9-5217-4A12-BE5F-97D5F061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BA2D01-2F11-42A8-9D04-EE4E8DC8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B04896-67C1-4F79-A5AA-F17B5050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A855-AAF0-44DF-A736-D4C9769C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D178C2-127B-4690-BD57-31FD5AD5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FB15E-DFB3-4E2D-8BF1-D6A31CC6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039D0-8ACF-4029-87B1-DE9EE80F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6A02C-5672-4905-A837-B126D7CB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11378-1B43-431D-B935-97E4A7E3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B7E4F-C059-40E9-9008-8D71604C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D4DEE-29B5-4792-8E3B-3AFDB977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AB91F-BF2E-49C7-9C93-6C80BBB1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3B856-C274-49D0-9779-CF81B851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D6A4D-238B-4C14-AE59-EB06E8E2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801A-E3E8-4CEE-B35D-8464A750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58014-BA62-488A-9B1F-A23040B4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93BCD-AB54-4EE5-82F8-5E934092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2C5DB-775B-4374-B9D0-0159997B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09AA-1E1E-4E45-B138-2D27D8D1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80C2-6A3F-4087-A9F6-AC79D955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775f55"/>
                </a:solidFill>
                <a:latin typeface="Tw Cen MT"/>
                <a:ea typeface="HY얕은샘물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775f55"/>
                </a:solidFill>
                <a:latin typeface="Tw Cen MT"/>
                <a:ea typeface="HY얕은샘물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직사각형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w Cen MT"/>
                <a:ea typeface="HY얕은샘물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3D6F-442A-40F8-8BD6-CBF2EC37E652}" type="slidenum">
              <a:rPr b="1" lang="ko-KR" sz="1400" spc="-1" strike="noStrike">
                <a:solidFill>
                  <a:srgbClr val="ffffff"/>
                </a:solidFill>
                <a:latin typeface="Tw Cen MT"/>
                <a:ea typeface="HY얕은샘물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직사각형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직사각형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직사각형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000" spc="-1" strike="noStrike">
                <a:solidFill>
                  <a:srgbClr val="ffffff"/>
                </a:solidFill>
                <a:latin typeface="Tw Cen MT"/>
                <a:ea typeface="HY얕은샘물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w Cen MT"/>
                <a:ea typeface="HY얕은샘물M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ebddc3"/>
                </a:solidFill>
                <a:latin typeface="Tw Cen MT"/>
                <a:ea typeface="HY얕은샘물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577B-8644-4593-A68F-EC24BBA2A905}" type="slidenum">
              <a:rPr b="1" lang="ko-KR" sz="1400" spc="-1" strike="noStrike">
                <a:solidFill>
                  <a:srgbClr val="ebddc3"/>
                </a:solidFill>
                <a:latin typeface="Tw Cen MT"/>
                <a:ea typeface="HY얕은샘물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사각형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775f55"/>
                </a:solidFill>
                <a:latin typeface="Tw Cen MT"/>
                <a:ea typeface="HY얕은샘물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775f55"/>
                </a:solidFill>
                <a:latin typeface="Tw Cen MT"/>
                <a:ea typeface="HY얕은샘물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400" spc="-1" strike="noStrike">
                <a:solidFill>
                  <a:srgbClr val="ffffff"/>
                </a:solidFill>
                <a:latin typeface="Tw Cen MT"/>
                <a:ea typeface="HY얕은샘물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03DD-1CDF-4B33-9099-C6DA004742D6}" type="slidenum">
              <a:rPr b="1" lang="ko-KR" sz="2400" spc="-1" strike="noStrike">
                <a:solidFill>
                  <a:srgbClr val="ffffff"/>
                </a:solidFill>
                <a:latin typeface="Tw Cen MT"/>
                <a:ea typeface="HY얕은샘물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775f55"/>
                </a:solidFill>
                <a:latin typeface="Tw Cen MT"/>
                <a:ea typeface="HY얕은샘물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775f55"/>
                </a:solidFill>
                <a:latin typeface="Tw Cen MT"/>
                <a:ea typeface="HY얕은샘물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775f55"/>
                </a:solidFill>
                <a:latin typeface="Tw Cen MT"/>
                <a:ea typeface="HY얕은샘물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3A6D-7907-4A32-8B41-1AA6E87FBEF1}" type="slidenum">
              <a:rPr b="1" lang="ko-KR" sz="1400" spc="-1" strike="noStrike">
                <a:solidFill>
                  <a:srgbClr val="775f55"/>
                </a:solidFill>
                <a:latin typeface="Tw Cen MT"/>
                <a:ea typeface="HY얕은샘물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직사각형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직사각형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직사각형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775f55"/>
                </a:solidFill>
                <a:latin typeface="Tw Cen MT"/>
                <a:ea typeface="HY얕은샘물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775f55"/>
                </a:solidFill>
                <a:latin typeface="Tw Cen MT"/>
                <a:ea typeface="HY얕은샘물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4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800" spc="-1" strike="noStrike">
                <a:solidFill>
                  <a:srgbClr val="ffffff"/>
                </a:solidFill>
                <a:latin typeface="Tw Cen MT"/>
                <a:ea typeface="HY얕은샘물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9040-FC30-4538-B9DA-D27857684850}" type="slidenum">
              <a:rPr b="1" lang="ko-KR" sz="2800" spc="-1" strike="noStrike">
                <a:solidFill>
                  <a:srgbClr val="ffffff"/>
                </a:solidFill>
                <a:latin typeface="Tw Cen MT"/>
                <a:ea typeface="HY얕은샘물M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5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직사각형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775f55"/>
                </a:solidFill>
                <a:latin typeface="Tw Cen MT"/>
                <a:ea typeface="HY얕은샘물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775f55"/>
                </a:solidFill>
                <a:latin typeface="Tw Cen MT"/>
                <a:ea typeface="HY얕은샘물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w Cen MT"/>
                <a:ea typeface="HY얕은샘물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8AF7-742F-4F9F-884A-B1575AAEC2A8}" type="slidenum">
              <a:rPr b="1" lang="ko-KR" sz="1400" spc="-1" strike="noStrike">
                <a:solidFill>
                  <a:srgbClr val="ffffff"/>
                </a:solidFill>
                <a:latin typeface="Tw Cen MT"/>
                <a:ea typeface="HY얕은샘물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4200" y="4038120"/>
            <a:ext cx="8624880" cy="17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dc3"/>
                </a:solidFill>
                <a:latin typeface="Tw Cen MT"/>
              </a:rPr>
              <a:t>MESTER DE JUGLAR</a:t>
            </a:r>
            <a:r>
              <a:rPr b="0" lang="en-US" sz="4800" spc="-1" strike="noStrike">
                <a:solidFill>
                  <a:srgbClr val="ebddc3"/>
                </a:solidFill>
                <a:latin typeface="Tw Cen MT"/>
                <a:ea typeface="Times New Roman"/>
              </a:rPr>
              <a:t>Í</a:t>
            </a:r>
            <a:r>
              <a:rPr b="0" lang="en-US" sz="4800" spc="-1" strike="noStrike">
                <a:solidFill>
                  <a:srgbClr val="ebddc3"/>
                </a:solidFill>
                <a:latin typeface="Tw Cen MT"/>
              </a:rPr>
              <a:t>A Y CLEREC</a:t>
            </a:r>
            <a:r>
              <a:rPr b="0" lang="en-US" sz="4800" spc="-1" strike="noStrike">
                <a:solidFill>
                  <a:srgbClr val="ebddc3"/>
                </a:solidFill>
                <a:latin typeface="Tw Cen MT"/>
                <a:ea typeface="Times New Roman"/>
              </a:rPr>
              <a:t>Í</a:t>
            </a:r>
            <a:r>
              <a:rPr b="0" lang="en-US" sz="4800" spc="-1" strike="noStrike">
                <a:solidFill>
                  <a:srgbClr val="ebddc3"/>
                </a:solidFill>
                <a:latin typeface="Tw Cen MT"/>
              </a:rPr>
              <a:t>A</a:t>
            </a:r>
            <a:endParaRPr b="0" lang="en-US" sz="4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Eun Jie Lee y Ruth Castillo. Pre AP Spanish “A”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64" name="Picture 2" descr="http://bp3.blogger.com/_lQvWWxpMCms/RwAd5Zck1SI/AAAAAAAAABo/GvqD5plavvo/s320/image034.jpg"/>
          <p:cNvPicPr/>
          <p:nvPr/>
        </p:nvPicPr>
        <p:blipFill>
          <a:blip r:embed="rId1"/>
          <a:stretch/>
        </p:blipFill>
        <p:spPr>
          <a:xfrm>
            <a:off x="3714840" y="642960"/>
            <a:ext cx="5029200" cy="42433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6"/>
          <p:cNvSpPr/>
          <p:nvPr/>
        </p:nvSpPr>
        <p:spPr>
          <a:xfrm>
            <a:off x="179280" y="6165720"/>
            <a:ext cx="2016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Ms. Escobar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75f55"/>
                </a:solidFill>
                <a:latin typeface="Tw Cen MT"/>
              </a:rPr>
              <a:t>Cantar del Mio Cid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3600"/>
            </a:b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Bodas de las hijas del Cid con los infantes de Carri</a:t>
            </a:r>
            <a:r>
              <a:rPr b="0" lang="en-US" sz="2900" spc="-1" strike="noStrike">
                <a:solidFill>
                  <a:srgbClr val="775f55"/>
                </a:solidFill>
                <a:latin typeface="Tw Cen MT"/>
                <a:ea typeface="Times New Roman"/>
              </a:rPr>
              <a:t>ón</a:t>
            </a:r>
            <a:endParaRPr b="0" lang="en-US" sz="2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42960" y="17859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n Valencia, Don Rodrigo pide al rey Alfonso VI que permita a su esposa e hijas reunirse con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é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El monarca se accede a su solicitud, pero los valiosos regalos enviados a la Corte por don Rodrigo despiertan la codicia de los infantes de Carrión, que piden al soberano por esposas a las hijas del Ci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El Cid accede al casamiento sólo porque se lo pide su rey, aunque desconfía de los infant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75f55"/>
                </a:solidFill>
                <a:latin typeface="Tw Cen MT"/>
              </a:rPr>
              <a:t>Cantar del Mio Cid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3600"/>
            </a:b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Afrenta de Corpes y venganza del Cid</a:t>
            </a:r>
            <a:endParaRPr b="0" lang="en-US" sz="2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n incidente en el campamento del Cid demuestra la cobar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ía de los infantes, y los compañeros del héroe se burlan de ellos. Ofendidos, éstos piden permiso para llevar a sus esposas a sus tierras de Carrió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Al entrar en territorio de Castilla, en el robledal de Corpes, azotan a sus mujeres y las dejan, desnudas y medio muertas, atadas a unos árboles (es la venganza que han tramado contra el Cid y sus guerrer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75f55"/>
                </a:solidFill>
                <a:latin typeface="Tw Cen MT"/>
              </a:rPr>
              <a:t>Cantar del Mio Cid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3600"/>
            </a:b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Afrenta de Corpes y venganza del Cid</a:t>
            </a:r>
            <a:endParaRPr b="0" lang="en-US" sz="2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o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ña Elvira y doña Sol son halladas por un primo suyo, que da parte de lo ocurrido a su padre. Este pide justicia al monarnca, y se celebran Cortes en Toled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En ellas, el Cid expone su demanda y reta a los infantes a un duelo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El duelo se efectúa, y los infanes son vencidos y declarados traidores. Llegan entonces mensajeros que piden en matrimonio a las hijas del Cid para los infantes de Navarra y Aragó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75f55"/>
                </a:solidFill>
                <a:latin typeface="Tw Cen MT"/>
              </a:rPr>
              <a:t>Cantar del Mio Ci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71680" y="19288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l Cid es el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único héroe de la epopeya universal que trasciende los dominios de la poesía y recibe de lleno la luz de la historia que no alumbra a ninguna de las grandes figuras épicas de otros puebl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Encarga de confirmar el heroísmo y las altas cualidades mora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0040" y="4038120"/>
            <a:ext cx="8339040" cy="17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bddc3"/>
                </a:solidFill>
                <a:latin typeface="Tw Cen MT"/>
              </a:rPr>
              <a:t>MESTER DE CLEREC</a:t>
            </a:r>
            <a:r>
              <a:rPr b="0" lang="en-US" sz="6600" spc="-1" strike="noStrike">
                <a:solidFill>
                  <a:srgbClr val="ebddc3"/>
                </a:solidFill>
                <a:latin typeface="Tw Cen MT"/>
                <a:ea typeface="Times New Roman"/>
              </a:rPr>
              <a:t>Í</a:t>
            </a:r>
            <a:r>
              <a:rPr b="0" lang="en-US" sz="6600" spc="-1" strike="noStrike">
                <a:solidFill>
                  <a:srgbClr val="ebddc3"/>
                </a:solidFill>
                <a:latin typeface="Tw Cen MT"/>
              </a:rPr>
              <a:t>A</a:t>
            </a:r>
            <a:endParaRPr b="0" lang="en-US" sz="6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93" name="Picture 2" descr="http://www.musee-moyenage.fr/images/pages/bitmaps/clu_4bisg_83EE905_detail2.jpg"/>
          <p:cNvPicPr/>
          <p:nvPr/>
        </p:nvPicPr>
        <p:blipFill>
          <a:blip r:embed="rId1"/>
          <a:stretch/>
        </p:blipFill>
        <p:spPr>
          <a:xfrm>
            <a:off x="3838680" y="1928880"/>
            <a:ext cx="488448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ester de Clerecía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La poesía es destinada principalmente a la lectur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Es poesía culta practicada por clérig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uvo su mayor auge en los siglos XIII y XIV, teniendo como mayor exponente a </a:t>
            </a:r>
            <a:r>
              <a:rPr b="0" lang="en-US" sz="2900" spc="-1" strike="noStrike">
                <a:solidFill>
                  <a:srgbClr val="dd8047"/>
                </a:solidFill>
                <a:latin typeface="Tw Cen MT"/>
              </a:rPr>
              <a:t>Gonzalo de Berce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Se distingue por el uso de la </a:t>
            </a:r>
            <a:r>
              <a:rPr b="0" i="1" lang="es-ES" sz="2900" spc="-1" strike="noStrike">
                <a:solidFill>
                  <a:srgbClr val="000000"/>
                </a:solidFill>
                <a:latin typeface="Tw Cen MT"/>
              </a:rPr>
              <a:t>cuaderna vía,</a:t>
            </a: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 que son estrofas de cuatro versos de rima consonante simila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37120" indent="-2289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w Cen MT"/>
              </a:rPr>
              <a:t>Versos Alejandrinos (14 sílabas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37120" indent="-2289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w Cen MT"/>
              </a:rPr>
              <a:t>Se llama tetrástrofo monorrimo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Los temas van desde lo religioso hasta lo festivo y lo pagan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onzalo de Berceo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53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El primer poeta castellano de nombre conocid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Nació a fines del siglo XII y se convirtió en sacerdot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Es el primer hagiógraf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Se educó en el convento de San Millán de la Cogoll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Murió después de 1264 en un lugar cercano a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Logroñ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onzalo de Berce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Su obra es de carácter religios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Sus poemas mas conocidos son la </a:t>
            </a:r>
            <a:r>
              <a:rPr b="0" i="1" lang="es-ES_tradnl" sz="2900" spc="-1" strike="noStrike">
                <a:solidFill>
                  <a:srgbClr val="000000"/>
                </a:solidFill>
                <a:latin typeface="Tw Cen MT"/>
              </a:rPr>
              <a:t>Vida de Santo Domingo de Silos, El sacrificio de la Misa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, y su obra mas importante los </a:t>
            </a:r>
            <a:r>
              <a:rPr b="0" i="1" lang="es-ES_tradnl" sz="2900" spc="-1" strike="noStrike">
                <a:solidFill>
                  <a:srgbClr val="000000"/>
                </a:solidFill>
                <a:latin typeface="Tw Cen MT"/>
              </a:rPr>
              <a:t>Milagros de Nuestra Señora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Amigos y vasallos de Dios omnipotente,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si escucharme quisierais de grado atentamente,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yo os querría contar un suceso excelent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al cabo lo veréis tal, verdaderamente.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                           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w Cen MT"/>
              </a:rPr>
              <a:t>Milagros de Nuestra Señor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os Milagros de Nuestra Señor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El primer verso es una escena alegórica continuada por una interpretación por el auto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Los siguientes versos expanden esa interpretación y preparan al lector a las otras alegorías que se encuentran en la obr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Quería popularizar las tradiciones religiosas relativas a la Virgen Mari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l Libro de Apoloni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1280" y="20718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Describe las aventuras de Apolonio, rey de Tiro, quien a perdido a su esposa Luciana e hija Tarsiana y las a recuperado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Es de autor anónim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Tiene conceptos caballerescos pero también conserva las narraciones bizantina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Refleja el mundo caballeresco de su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époc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0040" y="4038120"/>
            <a:ext cx="8339040" cy="17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bddc3"/>
                </a:solidFill>
                <a:latin typeface="Tw Cen MT"/>
              </a:rPr>
              <a:t>MESTER DE JUGLAR</a:t>
            </a:r>
            <a:r>
              <a:rPr b="0" lang="en-US" sz="6600" spc="-1" strike="noStrike">
                <a:solidFill>
                  <a:srgbClr val="ebddc3"/>
                </a:solidFill>
                <a:latin typeface="Tw Cen MT"/>
                <a:ea typeface="Times New Roman"/>
              </a:rPr>
              <a:t>Í</a:t>
            </a:r>
            <a:r>
              <a:rPr b="0" lang="en-US" sz="6600" spc="-1" strike="noStrike">
                <a:solidFill>
                  <a:srgbClr val="ebddc3"/>
                </a:solidFill>
                <a:latin typeface="Tw Cen MT"/>
              </a:rPr>
              <a:t>A</a:t>
            </a:r>
            <a:endParaRPr b="0" lang="en-US" sz="6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68" name="Picture 2" descr="http://www.xtec.cat/~mtribio/docs_diversitat/juglar1.jpg"/>
          <p:cNvPicPr/>
          <p:nvPr/>
        </p:nvPicPr>
        <p:blipFill>
          <a:blip r:embed="rId1"/>
          <a:stretch/>
        </p:blipFill>
        <p:spPr>
          <a:xfrm>
            <a:off x="4857840" y="1000080"/>
            <a:ext cx="385272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l Libro de Alexand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35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Este es el libro del mester de clerecía más extenso en existenci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Tiene aproximadamente 10,000 vers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El autor relata la vida de Alejandro Magno e incluye acontecimientos de otras épocas y descripciones imaginativas y fantástica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Algunos creen que el autor es anónimo, pero otros creen que es escrito por el clérigo Juan Lorenzo de Astorg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Libro de Alejandro Magno, desde su infancia hacia su muerte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l Libro de Buen Am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Principal exponente del g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é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nero y el mejor documento sobre la vida y costumbres de la España medieva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Ya no es completamente mester de clerecía, tiene mezcla de otros vers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El autor es Juan Ruiz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Habla de las aventuras del autor en su busqueda de amor, con muchas canciones, fabulas y relatos episódic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En la figura del hombre muestra el trota conventos. (En este caso Doña Urraca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l Libro de Buen Am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¡Ay Dios, y cúan hermosa viene doña Endrina por la plaza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¡Qué  talle, qué  donaire, qué alto cuello de garza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¡Qué cabellos, qué  boquilla, qué color, qué  buen andanza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 saetas de amor hiere cuando los sus ojos alza.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l Libro de Buen Am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El protagonista, don Melón, logra vencer la resistencia de doña Endrina gracias la ayuda de doña Urrac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Doña Urraca se convierte en la ‘match maker’ en las situaciones más difíci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Hace al lector reflexionar sobre la ira, envidia y perez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El deseo del autor de abarcar al ser humano en todas sus dimensiones, con todas sus virtudes y sus defectos, es la base de la obr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oema de Fernán González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ma épico tradicional puesto en cuderna ví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rdor bélico y patriótico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Juan Ruiz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9280" y="1643040"/>
            <a:ext cx="815364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Aparentemente nació en Alcalá de Henares en el año 1283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Se convirtió en sacerdot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Años después fue nombrado arcipreste principal de Hita, en Castilla la Nuev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Tuvo una vida intens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Tenia convicciones religiosas profunda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Lo metieron preso por escribir sobre amores pecaminos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Murió alrededor de 1350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lusion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531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Mester de clerecía es escrita por clérigos, con temas variados y el uso de la </a:t>
            </a:r>
            <a:r>
              <a:rPr b="0" i="1" lang="es-ES_tradnl" sz="2900" spc="-1" strike="noStrike">
                <a:solidFill>
                  <a:srgbClr val="000000"/>
                </a:solidFill>
                <a:latin typeface="Tw Cen MT"/>
              </a:rPr>
              <a:t>cuaderna vía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El autor Gonzalo de Berceo es el primer poeta castellano de nombre conocid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El Libro de Buen Amor es el mayor exponente del g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é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nero y el mejor documento sobre la vida y costumbres de la España medieva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Mester de juglaría es de transmisión oral y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narra las hazañas de los héroes de la époc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El Mio Cid es la epopeya más antigua y se basa en hechos rigurosamente históric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775f55"/>
                </a:solidFill>
                <a:latin typeface="Tw Cen MT"/>
              </a:rPr>
              <a:t>Bibliografí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Introduccion a la Literatura Española. Francisco Perez Rivera y Mario Hurtado. Prentice Hall Regents. Paginas 11-31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ester de juglar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Times New Roman"/>
              </a:rPr>
              <a:t>í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95280" y="1628640"/>
            <a:ext cx="81532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a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épica medieval castellana que narra las hazañas de los héroes de la época, se transmite oralmente de unos juglares a otros y más que la obra de autores anónimos, es el producto de la colaboración de tod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Temas nacionale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Cantares de ges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Rima asonan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Medida irregular de los vers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iversas teor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Times New Roman"/>
              </a:rPr>
              <a:t>ías de su oríg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00040" y="257184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rivaci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ón de la épica francesa – la que busca sus raíces en los cantos guerreros de los visigod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Origen gótico(germánico) que explicase, la génesis de la epopeya, un influjo directo de formas, de detalles, de nombres árabes y un desarrollo netamente español y castellan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l per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Times New Roman"/>
              </a:rPr>
              <a:t>íodo de formació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28760" y="199980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tiende desde alrededor del siglo X hasta principios del XII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 sigue la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época de su máximo esplendo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Luego, el mester de juglaría se sigue cultivando con asiduidad aunque ha hecho ya su aparición la escuela “rival” del mester de clerecí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l per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Times New Roman"/>
              </a:rPr>
              <a:t>íodo de formació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28760" y="2362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gunda mitad del siglo XIV comienza la decadencia del g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énero (los cnatares extensos se van fragmentando, el elemento fantástico gana preponderancia y el poema épico deriva hacia una nueva forma con sensibilidad de las nuevas estructuras sociales: el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romanc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75f55"/>
                </a:solidFill>
                <a:latin typeface="Tw Cen MT"/>
              </a:rPr>
              <a:t>Cantar del Mio Ci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00040" y="185688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a obra m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ás antigua de la epopeya castellana que ha llegado hasta nosotros es el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Cantar de Mio Ci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, que constituye el primer monumento literiario españo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Compuesto hacia el año 1140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El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Ci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 ofrece pruebas de que, a diferencia de otras gestas europeas, la epopeya castellana se basa en hechos rigurosamente históric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Las descripciones geográficas corresponden a la realida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75f55"/>
                </a:solidFill>
                <a:latin typeface="Tw Cen MT"/>
              </a:rPr>
              <a:t>Cantar del Mio Ci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00040" y="185688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l fil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ólogo español, Ramón Menéndez Pidal, autor d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principales investigaciones históricas y literarias h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dividido el poema en tres part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Times New Roman"/>
              </a:rPr>
              <a:t>Cantar del destierr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Times New Roman"/>
              </a:rPr>
              <a:t>Bodas de las hijas del Cid con los infantes de Carrió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Times New Roman"/>
              </a:rPr>
              <a:t>Afrenta de Corpes y venganza del Ci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3840" y="228600"/>
            <a:ext cx="8551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75f55"/>
                </a:solidFill>
                <a:latin typeface="Tw Cen MT"/>
              </a:rPr>
              <a:t>Cantar del Mio Cid </a:t>
            </a:r>
            <a:br>
              <a:rPr sz="3600"/>
            </a:br>
            <a:r>
              <a:rPr b="0" lang="en-US" sz="2500" spc="-1" strike="noStrike">
                <a:solidFill>
                  <a:srgbClr val="775f55"/>
                </a:solidFill>
                <a:latin typeface="Tw Cen MT"/>
                <a:ea typeface="Times New Roman"/>
              </a:rPr>
              <a:t>Cantar del destierro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71680" y="164304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Por falsas imputaciones de sus enemigos, el Cid es desterrado de Castilla por su rey, Alfonso VI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Don Rodrigo llega con sus hombres a Burgos, donde nadie les ofrece alojamiento porque el rey lo ha prohibid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Siguen al monasterio de San Pedro de Cardeña y allí se despide de su esposa y de sus dos hija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Don Rodrigo y sus hombres Comienza su larga serie de conquista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20:53:56Z</dcterms:created>
  <dc:creator>Windows User</dc:creator>
  <dc:description/>
  <dc:language>en-US</dc:language>
  <cp:lastModifiedBy>gescobar</cp:lastModifiedBy>
  <dcterms:modified xsi:type="dcterms:W3CDTF">2009-03-20T14:22:46Z</dcterms:modified>
  <cp:revision>17</cp:revision>
  <dc:subject/>
  <dc:title>Mester de JuglarÍa Y ClerecÍa</dc:title>
</cp:coreProperties>
</file>